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4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FF0-F9C5-41E8-8598-BE630619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ED4-2C1B-4E73-AC78-3D897F9C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437-135C-4D40-99A8-C7153B24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2E2-97E2-4DEA-808A-F024A86E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6497-8F1B-4553-A3E9-76DB3188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D58A-4328-499E-B080-B15EC717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D0A0-7E96-4365-80B2-DBB7BB5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0128-8E4C-4C49-9D3E-3621B5B9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B9A0-919D-4191-9D6F-E7842633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1FCB-6B7E-4FF4-A6B9-D94A16C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6D5-6DBD-43B9-BD5C-F28B8C9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A05-D1AD-4E64-AF6E-8F38A4EA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4955-9882-43C2-AA2F-F3FDD0B2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445-A307-4B04-BE57-014E17D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D825-B060-47FC-ACF7-7A6CDCE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C93D-16F3-4566-806A-3AB2639A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0DF-5C46-47FC-924A-BB062E63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209-E7E8-4B75-AD2B-371EC7F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B87-E3D5-4554-8AC2-FF9DE3AF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A4B-5582-48F5-A413-21E1F85B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012-0530-4145-BF62-AE67498F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E57-711E-49E6-85C4-AF7C5006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7C1-7792-4BE1-9F0C-943629C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797-AE5E-4016-BABE-A5E2DD0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0617-1C55-44A9-A537-019FDD995F4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30481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5370-78B9-430A-A0D5-9C83FC2B8B3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228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Year 10 Sports Scien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84360" y="386064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’s the Scienc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9. Cycl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033800" cy="403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907920"/>
            <a:ext cx="4245120" cy="273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4189680" cy="246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0. Netbal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" descr="Natalie von Bertouch."/>
          <p:cNvPicPr/>
          <p:nvPr/>
        </p:nvPicPr>
        <p:blipFill>
          <a:blip r:embed="rId2"/>
          <a:stretch/>
        </p:blipFill>
        <p:spPr>
          <a:xfrm>
            <a:off x="324000" y="836640"/>
            <a:ext cx="3128760" cy="5329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924360" y="836640"/>
            <a:ext cx="3743280" cy="1787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24360" y="2781360"/>
            <a:ext cx="3809880" cy="326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1. Motor Spor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476520" cy="522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67352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140360" y="3573360"/>
            <a:ext cx="4572000" cy="2519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r each of the following slides, you are to think of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hree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s of how science is assisting or working for each athlete show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ridiro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xample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elme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– absorbs force in collis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lov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– Add friction to allow the ball to be caught easi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– Synthetic materials used as they are light weight and breatha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68880" y="765000"/>
            <a:ext cx="3290760" cy="4608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>
            <a:off x="4643280" y="2923920"/>
            <a:ext cx="1584360" cy="93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348000" y="1628640"/>
            <a:ext cx="3456000" cy="2232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84720" y="3715920"/>
            <a:ext cx="2663640" cy="1584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1. Swimm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3168720" cy="2077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765000"/>
            <a:ext cx="4033800" cy="2951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067280" y="400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2087640" cy="288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627280" y="836640"/>
            <a:ext cx="202392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2. Snowboarding / Ski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164120" y="3933720"/>
            <a:ext cx="126036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486252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651640" y="981000"/>
            <a:ext cx="3057480" cy="443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826920" y="4005360"/>
            <a:ext cx="2916360" cy="2136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3. Tenni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56360" y="765000"/>
            <a:ext cx="2705040" cy="368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2476440" cy="2880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046320" cy="295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203640" y="4437000"/>
            <a:ext cx="2449440" cy="1752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324000" y="3860640"/>
            <a:ext cx="2376360" cy="199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4. Track &amp; Fiel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2809800" cy="257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17096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195640" y="3860640"/>
            <a:ext cx="3333600" cy="2362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651640" y="3573360"/>
            <a:ext cx="2678040" cy="1784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4000" y="836640"/>
            <a:ext cx="5040000" cy="2857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5. Footbal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2887560" cy="4105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19640" y="765000"/>
            <a:ext cx="2238120" cy="2857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940360" y="836640"/>
            <a:ext cx="2803680" cy="424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564000" y="3716280"/>
            <a:ext cx="2054160" cy="2425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6. Crick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562120" cy="302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587320" cy="2952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50920" y="4076640"/>
            <a:ext cx="2585880" cy="1874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802480" y="836640"/>
            <a:ext cx="3111480" cy="4392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03640" y="3933720"/>
            <a:ext cx="2082600" cy="237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8. Water Spor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3527280" cy="2756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5496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067280" y="765000"/>
            <a:ext cx="4886280" cy="439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8532720" y="6237360"/>
            <a:ext cx="466920" cy="45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23:50:23Z</dcterms:created>
  <dc:creator>DE&amp;T User</dc:creator>
  <dc:description/>
  <cp:keywords/>
  <dc:language>en-US</dc:language>
  <cp:lastModifiedBy>DE&amp;T User</cp:lastModifiedBy>
  <dcterms:modified xsi:type="dcterms:W3CDTF">2008-07-09T00:58:14Z</dcterms:modified>
  <cp:revision>12</cp:revision>
  <dc:subject/>
  <dc:title>Year 10 Sports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11033</vt:lpwstr>
  </property>
</Properties>
</file>